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7C0-1A01-49D3-A21A-723F801A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915-8EF9-462D-963C-459DBBB81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963-6521-49FD-B84E-07E6AE41F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982C-4264-4200-95BA-35975233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711-C699-42CD-BA63-069432F7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317-9D6D-4BB1-83C1-F274C2C9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A40-2254-4E6B-9DD9-81EE16A9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DA5-5CCD-41E7-92C3-238C23C2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CF1-397B-4B96-9ABB-AC7DBD1D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4C2-9414-4E89-9C4C-3FC6D1C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FE7-A301-4E55-9D3B-0D39F2F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223-B548-4628-80FC-71A32F3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F2E-E9F5-4175-B5A5-AD395A5A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FE2-D77C-4336-ABDA-1DD4B6B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3BC-5FCE-4124-B578-6536338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8BD-D724-4993-A96B-795104F3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6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066680" y="975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Mean, Median, Mode and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"/>
            <p:cNvSpPr/>
            <p:nvPr/>
          </p:nvSpPr>
          <p:spPr>
            <a:xfrm>
              <a:off x="1371600" y="1627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Mean, Median, Mode, and Ran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7">
            <a:hlinkClick r:id="" action="ppaction://hlinkshowjump?jump=nextslide"/>
          </p:cNvPr>
          <p:cNvSpPr/>
          <p:nvPr/>
        </p:nvSpPr>
        <p:spPr>
          <a:xfrm>
            <a:off x="3846600" y="235044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990720"/>
            <a:ext cx="85341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228600" y="3352680"/>
            <a:ext cx="6095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3 + 26 + 47 + 12 = 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8 ÷ 4 = 3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28600" y="5562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34.5 points. The average number of points scored is 34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579132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5791320" y="4146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2057400"/>
          <a:ext cx="3962520" cy="843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oints Sco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Oval 7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1295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other descriptions of a set of data are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dian, mode, and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5318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difference between the least and greatest values in the se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362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middle value when the data are in numerical order, or the mean of the two middle values if there are an even number of items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3520" y="36576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value or values that occur most often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may be more than one mode for a data set. When all values occur an equal number of times, the data set has no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04920" y="8380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Finding the Mean, Median, Mode, and Range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85800" y="3733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the data in numer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724280" y="3733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, 12, 14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85800" y="5562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5 – 11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685800" y="3124080"/>
            <a:ext cx="3352320" cy="674640"/>
            <a:chOff x="685800" y="3124080"/>
            <a:chExt cx="3352320" cy="674640"/>
          </a:xfrm>
        </p:grpSpPr>
        <p:sp>
          <p:nvSpPr>
            <p:cNvPr id="118" name="Text Box 21"/>
            <p:cNvSpPr/>
            <p:nvPr/>
          </p:nvSpPr>
          <p:spPr>
            <a:xfrm>
              <a:off x="685800" y="31240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an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2 + 11 + 14 + 15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2680920" y="3430440"/>
              <a:ext cx="6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23"/>
          <p:cNvSpPr/>
          <p:nvPr/>
        </p:nvSpPr>
        <p:spPr>
          <a:xfrm>
            <a:off x="3895560" y="3206880"/>
            <a:ext cx="14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685800" y="4187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a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, 12, 14,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2209680" y="4146480"/>
            <a:ext cx="990720" cy="457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6"/>
          <p:cNvGrpSpPr/>
          <p:nvPr/>
        </p:nvGrpSpPr>
        <p:grpSpPr>
          <a:xfrm>
            <a:off x="903240" y="4610160"/>
            <a:ext cx="2362320" cy="674640"/>
            <a:chOff x="903240" y="4610160"/>
            <a:chExt cx="2362320" cy="674640"/>
          </a:xfrm>
        </p:grpSpPr>
        <p:sp>
          <p:nvSpPr>
            <p:cNvPr id="124" name="Text Box 27"/>
            <p:cNvSpPr/>
            <p:nvPr/>
          </p:nvSpPr>
          <p:spPr>
            <a:xfrm>
              <a:off x="903240" y="46101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2 + 14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8"/>
            <p:cNvSpPr/>
            <p:nvPr/>
          </p:nvSpPr>
          <p:spPr>
            <a:xfrm>
              <a:off x="2309040" y="4916520"/>
              <a:ext cx="4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29"/>
          <p:cNvSpPr/>
          <p:nvPr/>
        </p:nvSpPr>
        <p:spPr>
          <a:xfrm>
            <a:off x="2895480" y="469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685800" y="5181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685800" y="5911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an is 13, the median is 13, there is no mode, and the range i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3962520" y="4189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Verdana"/>
              </a:rPr>
              <a:t>There are an even number of items, so find the mean of the two midd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3"/>
          <p:cNvSpPr/>
          <p:nvPr/>
        </p:nvSpPr>
        <p:spPr>
          <a:xfrm>
            <a:off x="380880" y="157176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, median, mode, and range of th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828800" y="1981080"/>
          <a:ext cx="4267080" cy="1096920"/>
        </p:xfrm>
        <a:graphic>
          <a:graphicData uri="http://schemas.openxmlformats.org/drawingml/2006/table">
            <a:tbl>
              <a:tblPr/>
              <a:tblGrid>
                <a:gridCol w="2081160"/>
                <a:gridCol w="21859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Wash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Oval 20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8380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3505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 the data in numer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800600" y="3505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, 14, 17,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5424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g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22 – 11 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685800" y="2895480"/>
            <a:ext cx="3352320" cy="674640"/>
            <a:chOff x="685800" y="2895480"/>
            <a:chExt cx="3352320" cy="674640"/>
          </a:xfrm>
        </p:grpSpPr>
        <p:sp>
          <p:nvSpPr>
            <p:cNvPr id="138" name="Text Box 7"/>
            <p:cNvSpPr/>
            <p:nvPr/>
          </p:nvSpPr>
          <p:spPr>
            <a:xfrm>
              <a:off x="685800" y="2895480"/>
              <a:ext cx="33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ean: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7 + 11 + 22 + 14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680920" y="3201840"/>
              <a:ext cx="6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3895560" y="2978280"/>
            <a:ext cx="14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85800" y="40035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a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1, 14, 17,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2209680" y="3962520"/>
            <a:ext cx="990720" cy="4572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2"/>
          <p:cNvGrpSpPr/>
          <p:nvPr/>
        </p:nvGrpSpPr>
        <p:grpSpPr>
          <a:xfrm>
            <a:off x="903240" y="4425840"/>
            <a:ext cx="2362320" cy="674640"/>
            <a:chOff x="903240" y="4425840"/>
            <a:chExt cx="2362320" cy="674640"/>
          </a:xfrm>
        </p:grpSpPr>
        <p:sp>
          <p:nvSpPr>
            <p:cNvPr id="144" name="Text Box 13"/>
            <p:cNvSpPr/>
            <p:nvPr/>
          </p:nvSpPr>
          <p:spPr>
            <a:xfrm>
              <a:off x="903240" y="442584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14 + 17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2309040" y="4732200"/>
              <a:ext cx="4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5"/>
          <p:cNvSpPr/>
          <p:nvPr/>
        </p:nvSpPr>
        <p:spPr>
          <a:xfrm>
            <a:off x="2895480" y="4513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85800" y="4997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85800" y="5867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an is 16, the median is 15.5, there is no mode, and the range is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962520" y="4005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ff"/>
                </a:solidFill>
                <a:latin typeface="Verdana"/>
              </a:rPr>
              <a:t>There are an even number of items, so find the mean of the two middle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380880" y="12193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, median, mode, and range of th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28800" y="1704960"/>
          <a:ext cx="4267080" cy="1096920"/>
        </p:xfrm>
        <a:graphic>
          <a:graphicData uri="http://schemas.openxmlformats.org/drawingml/2006/table">
            <a:tbl>
              <a:tblPr/>
              <a:tblGrid>
                <a:gridCol w="2081160"/>
                <a:gridCol w="21859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ke Sale 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de      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Oval 20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1141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37000"/>
            <a:ext cx="8382240" cy="42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following data set:                              18, 20, 56, 47, 30, 18,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rang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edia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56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onnie ran a mile in 8 minutes, 8 minutes, 7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utes, 9 minutes, and 8 minutes. What wa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 mean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352680" y="274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7924680" y="2742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538440" y="3383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7924680" y="33962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838080" y="55616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1600200"/>
            <a:ext cx="8229600" cy="42670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, 6, 25, 7, 4,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0, 11, 27, 45,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20 ÷ 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60 ÷ 10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64120" y="271404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4, 6, 7, 8, 12,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195080" y="34426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1, 27, 32, 45,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473920" y="49744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161840" y="49744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1371600"/>
            <a:ext cx="8381880" cy="43434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s. Red, Ms. Blue, and Ms. Green attended a holiday party. They each wore a different-colored dress, red, blue, or green. Ms. Red said to the lady wearing the blue dress, “Did you notice that none of us is wearing a dress with the color that corresponds to our name?” Who wore which color dr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" y="5105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s. Red: green; Ms. Blue: red; Ms. Green: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80880" y="2438280"/>
            <a:ext cx="8305920" cy="10670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find the range, mean, median, and mode of a data set</a:t>
            </a:r>
            <a:r>
              <a:rPr b="0" lang="en-US" sz="3000" spc="-1" strike="noStrike">
                <a:solidFill>
                  <a:srgbClr val="000000"/>
                </a:solidFill>
                <a:latin typeface="AGaramon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 Black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914400" y="1828800"/>
            <a:ext cx="7162920" cy="2819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533520" y="18129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ers on a volleyball team measured how high they could jump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ults in inches are recorded i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33520" y="41752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way to describe this data set is to fi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sum of all the items divided by the number of items in the set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ometime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The mean of this set of data is the average height that the vollyball team could ju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28800" y="3124080"/>
          <a:ext cx="4343400" cy="609840"/>
        </p:xfrm>
        <a:graphic>
          <a:graphicData uri="http://schemas.openxmlformats.org/drawingml/2006/table">
            <a:tbl>
              <a:tblPr/>
              <a:tblGrid>
                <a:gridCol w="620640"/>
                <a:gridCol w="620640"/>
                <a:gridCol w="621000"/>
                <a:gridCol w="618840"/>
                <a:gridCol w="621000"/>
                <a:gridCol w="631800"/>
                <a:gridCol w="6094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7" name="Oval 4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304920" y="990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A: Finding the Mean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306520"/>
          <a:ext cx="4495680" cy="819360"/>
        </p:xfrm>
        <a:graphic>
          <a:graphicData uri="http://schemas.openxmlformats.org/drawingml/2006/table">
            <a:tbl>
              <a:tblPr/>
              <a:tblGrid>
                <a:gridCol w="642960"/>
                <a:gridCol w="641160"/>
                <a:gridCol w="642960"/>
                <a:gridCol w="641520"/>
                <a:gridCol w="642960"/>
                <a:gridCol w="641160"/>
                <a:gridCol w="64296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ths of Puddles (i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51"/>
          <p:cNvSpPr/>
          <p:nvPr/>
        </p:nvSpPr>
        <p:spPr>
          <a:xfrm>
            <a:off x="304920" y="350532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5 + 8 + 3 + 5 + 4 + 2 + 1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8 ÷ 7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4"/>
          <p:cNvSpPr/>
          <p:nvPr/>
        </p:nvSpPr>
        <p:spPr>
          <a:xfrm>
            <a:off x="228600" y="5657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4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6581880" y="35193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6553080" y="4267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1"/>
          <p:cNvSpPr/>
          <p:nvPr/>
        </p:nvSpPr>
        <p:spPr>
          <a:xfrm>
            <a:off x="304920" y="1828800"/>
            <a:ext cx="883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04920" y="9907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B: Finding the Mean of a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304920" y="365760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6 + 75 + 84 + 7 = 2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83 ÷ 4 = 6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228600" y="56577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65.5 points. The average number of points scored is 65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943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5943600" y="45277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304920" y="1828800"/>
            <a:ext cx="594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395440"/>
          <a:ext cx="3962520" cy="843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oints Sco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Oval 8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990720"/>
            <a:ext cx="85341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 the mean of each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2133720"/>
          <a:ext cx="4496040" cy="819000"/>
        </p:xfrm>
        <a:graphic>
          <a:graphicData uri="http://schemas.openxmlformats.org/drawingml/2006/table">
            <a:tbl>
              <a:tblPr/>
              <a:tblGrid>
                <a:gridCol w="642960"/>
                <a:gridCol w="641520"/>
                <a:gridCol w="642960"/>
                <a:gridCol w="641160"/>
                <a:gridCol w="642960"/>
                <a:gridCol w="641520"/>
                <a:gridCol w="64296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nfall per month (in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5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26"/>
          <p:cNvSpPr/>
          <p:nvPr/>
        </p:nvSpPr>
        <p:spPr>
          <a:xfrm>
            <a:off x="304920" y="3352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a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+ 2 + 10 + 2 + 5 + 6 + 9 =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 ÷ 7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04920" y="557676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an is 5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6781680" y="3352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al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6781680" y="419112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ivide the sum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98280" y="44280"/>
            <a:ext cx="9907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8:57:59Z</dcterms:created>
  <dc:creator>Laurel Nissen</dc:creator>
  <dc:description/>
  <dc:language>en-US</dc:language>
  <cp:lastModifiedBy>New User</cp:lastModifiedBy>
  <dcterms:modified xsi:type="dcterms:W3CDTF">2012-05-13T17:21:24Z</dcterms:modified>
  <cp:revision>23</cp:revision>
  <dc:subject/>
  <dc:title>Slide 1</dc:title>
</cp:coreProperties>
</file>